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6AF84A-76D5-4D17-B362-18A9A8B0A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F0771-C57E-4ED2-9199-9578B67305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51B827-158C-4E4B-B150-6ED0A8703A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1DC4B5-96BE-4862-8B60-B390FDB979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849B-EF1D-4DDC-B339-843C3E9F2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C68E-7D61-494A-B412-F5E1A8F28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EFC0-956F-42B5-8A1C-219571DCF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CCB7-320C-4954-9A22-D50ECD849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27BF-B3A0-4554-A04A-1F1287BF4D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2325-7FD4-4547-AC0E-1665F2531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B003-1B51-483A-9162-2F224FE2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C51A-7D09-4281-A5F4-9545FF306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646F-0758-4425-B17E-6B3E8EBDD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1959-9AE2-47C5-B948-BF3211A77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4956-5706-4417-BFDC-7869772A3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98AC-6E76-4588-AD48-305E3B2C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41A046-EEF9-4AAE-BC32-52FC4A99F56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/&#1086;&#1089;&#1085;&#1086;&#1074;&#1085;&#1072;&#1103; &#1087;&#1088;&#1077;&#1079;&#1077;&#1085;&#1090;&#1072;&#1094;&#1080;&#1103; &#1058;&#1088;&#1077;&#1091;&#1075;&#1086;&#1083;&#1100;&#1085;&#1080;&#1082;&#1080;.&#1087;&#1088;&#1086;&#1077;&#1082;&#1090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"/>
          <p:cNvSpPr txBox="1"/>
          <p:nvPr/>
        </p:nvSpPr>
        <p:spPr>
          <a:xfrm rot="21420000">
            <a:off x="821880" y="1193760"/>
            <a:ext cx="107964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1712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2"/>
          <p:cNvSpPr txBox="1"/>
          <p:nvPr/>
        </p:nvSpPr>
        <p:spPr>
          <a:xfrm>
            <a:off x="611280" y="549360"/>
            <a:ext cx="806436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ниматель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 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4321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27672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2203560" y="108000"/>
            <a:ext cx="4262400" cy="6561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758360" y="25286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460680" cy="415296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914400" y="1295280"/>
            <a:ext cx="5334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50920" y="-19080"/>
            <a:ext cx="86508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Ц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2">
            <a:hlinkClick r:id="rId1"/>
          </p:cNvPr>
          <p:cNvSpPr/>
          <p:nvPr/>
        </p:nvSpPr>
        <p:spPr>
          <a:xfrm>
            <a:off x="8317080" y="6165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100160" y="181080"/>
            <a:ext cx="7719840" cy="66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92280"/>
            <a:ext cx="822816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Задачи бывают разные, легкие, трудные, каверз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 ответом и без, с решеньем до сле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о мы их не будем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Попробуем с ними сраз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Давайте начнем р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И весело, дружно иг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820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1.У каждого из шести братьев по одной сестре. Сколько детей в сем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640" y="1535040"/>
            <a:ext cx="438948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2228b"/>
                </a:solidFill>
                <a:latin typeface="Arial Narrow"/>
              </a:rPr>
              <a:t>2.Чему равно произведение всех циф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7640" y="3933360"/>
            <a:ext cx="43894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 Narrow"/>
              </a:rPr>
              <a:t>3.Одно яйцо варится 4 минуты. Сколько будут вариться 5 я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27280" y="1628640"/>
            <a:ext cx="4716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4.На двух руках 10 пальцев. Сколько пальцев на 10 ру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3644640"/>
            <a:ext cx="449892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 Narrow"/>
              </a:rPr>
              <a:t>5. На столе горели 6 свечей. Одну из них потушили. Сколько свечей осталось на сто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6920" y="620640"/>
          <a:ext cx="7286760" cy="6093000"/>
        </p:xfrm>
        <a:graphic>
          <a:graphicData uri="http://schemas.openxmlformats.org/drawingml/2006/table">
            <a:tbl>
              <a:tblPr/>
              <a:tblGrid>
                <a:gridCol w="1214640"/>
                <a:gridCol w="1214280"/>
                <a:gridCol w="1214640"/>
                <a:gridCol w="1214280"/>
                <a:gridCol w="1214640"/>
                <a:gridCol w="121428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0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16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1531800" y="229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115920"/>
            <a:ext cx="8507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В темной комнате в коробке лежат                4 красных и 3 синих карандаша. Сколько надо взять карандашей, чтобы среди них был обязательно один синий каранда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3357720"/>
            <a:ext cx="889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В темной комнате в коробке лежат 120 белых и 200 черных пуговиц. Сколько надо взять пуговиц не глядя, чтобы среди них обязательно было 20 пуговиц одного цв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02840" y="1483920"/>
            <a:ext cx="821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 Narrow"/>
                <a:ea typeface="Arial"/>
              </a:rPr>
              <a:t>Есть полное 10 литровое ведро воды. Как, имея только ведра вместимостью     5л и 9л,                        налить 6л в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4076280"/>
            <a:ext cx="8218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Arial Narrow"/>
                <a:ea typeface="Arial"/>
              </a:rPr>
              <a:t>Можно ли набрать из крана 4л воды, если есть ведра 5л и 3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WordArt 2" descr=""/>
          <p:cNvPicPr/>
          <p:nvPr/>
        </p:nvPicPr>
        <p:blipFill>
          <a:blip r:embed="rId1"/>
          <a:stretch/>
        </p:blipFill>
        <p:spPr>
          <a:xfrm>
            <a:off x="-274680" y="171360"/>
            <a:ext cx="9729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1600200"/>
            <a:ext cx="896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b050"/>
                </a:solidFill>
                <a:latin typeface="Arial"/>
              </a:rPr>
              <a:t>123456789=1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Arial"/>
              </a:rPr>
              <a:t>123</a:t>
            </a: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7200" spc="-1" strike="noStrike">
                <a:solidFill>
                  <a:srgbClr val="7030a0"/>
                </a:solidFill>
                <a:latin typeface="Arial"/>
              </a:rPr>
              <a:t>45</a:t>
            </a: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7200" spc="-1" strike="noStrike">
                <a:solidFill>
                  <a:srgbClr val="7030a0"/>
                </a:solidFill>
                <a:latin typeface="Arial"/>
              </a:rPr>
              <a:t>67</a:t>
            </a: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7200" spc="-1" strike="noStrike">
                <a:solidFill>
                  <a:srgbClr val="7030a0"/>
                </a:solidFill>
                <a:latin typeface="Arial"/>
              </a:rPr>
              <a:t>89=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12600" y="165240"/>
            <a:ext cx="9131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9280" y="404280"/>
            <a:ext cx="8569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2946a"/>
                </a:solidFill>
                <a:latin typeface="Arial Narrow"/>
              </a:rPr>
              <a:t>На столе стоят шесть стаканов.        Три с водой и три пустых. Дотроньтесь рукой лишь до одного стакана и добейтесь, чтобы пустые и полные стаканы чередовал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560" y="18864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Есть две изолированные друг от друга комнаты. В одной находятся   3 лампочки, в другой - три выключател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Вы стоите в комнате                                       с выключателями и можете перейти в комнату с лампочками лишь один раз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Narrow"/>
              </a:rPr>
              <a:t>Необходимо определить, какая лампочка включается каким выключа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1:10:02Z</dcterms:created>
  <dc:creator>karpova</dc:creator>
  <dc:description/>
  <dc:language>en-US</dc:language>
  <cp:lastModifiedBy>Пользователь</cp:lastModifiedBy>
  <dcterms:modified xsi:type="dcterms:W3CDTF">2014-05-07T10:26:45Z</dcterms:modified>
  <cp:revision>56</cp:revision>
  <dc:subject/>
  <dc:title>Слайд 1</dc:title>
</cp:coreProperties>
</file>